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BDD-7D08-4C58-A26E-D19A9D86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532-67AD-4363-886B-8A41456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50E-8384-4BB3-A153-EED99C82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454-2B9B-4AE7-9031-FEA75623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599-DCC1-4677-B15E-15250739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AE7-E7FA-4E7E-9926-8832C84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A32-EA2F-4CF3-901E-81FB7024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346-FC6B-4EB9-973A-F0F2A02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984-FB74-4B0B-8A19-04CC991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EA7-0085-45BF-92E4-1B0B64B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D5D-ED64-4DA7-B2D7-94AB292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01C-5C7D-4166-BA73-61128D4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3031-AA6E-4D01-86B1-DB4F69BD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9:06Z</dcterms:created>
  <dc:creator>Maxwell Matt</dc:creator>
  <dc:description/>
  <dc:language>en-US</dc:language>
  <cp:lastModifiedBy>Maxwell Matt</cp:lastModifiedBy>
  <dcterms:modified xsi:type="dcterms:W3CDTF">2009-01-23T16:35:00Z</dcterms:modified>
  <cp:revision>1</cp:revision>
  <dc:subject/>
  <dc:title>PowerPoint Presentation</dc:title>
</cp:coreProperties>
</file>